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1AA-4C3D-42A5-B3D2-09F19D6C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512-BC3D-4688-8270-E64EE4AC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752EE-19A2-4687-979D-8D6A201E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DEA82-0CB2-4342-9B53-E22532F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CD49C-15DA-4904-8EEE-49D4A5DA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4B1A1-13F4-4BDC-9F20-B686469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1CECE-2D36-4DF6-8970-EB14F22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6F38-6F76-4DCD-B804-2AF6DB1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A595-415B-4916-9A49-27DC526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7279F-EFBD-4D67-B3FD-C5FD6433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68BA-A5D4-4E85-AEB2-A105E493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E359A-8BC7-4F4E-8CE7-9BCE356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788-AE55-4F10-89F3-6255175F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D5E3F-157A-425D-9A86-4C74009B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B3D62-0FE1-48E5-B4A4-68CA5AE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BE4B3-2A0F-4707-944D-2141B79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F4DA6-8122-4475-B30F-A68AA194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444B1-EBAD-4C88-923C-24FC9058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6DB18-B2C1-4158-9B62-642F052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1CBD6-75D3-42F0-9F68-DA5B460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89064-E420-4BD1-944C-346125E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1EEEE-2644-432A-8493-5CA3F525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09B5A-791D-4A34-871F-65558C14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C2B-999A-436E-87A4-0D67DC55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EB91-9C32-488C-81FC-50B7B183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8D392-12EA-44A6-8E97-BB6C84EB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E6AF0-058D-4711-9330-A9F23E6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7E22-6C63-4CE7-B630-3E71E238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D625B-FEAC-4031-8B1A-A83AE6C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69F2-57B3-40D5-A454-20D9A48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EA5A7-A211-46AB-BD3E-CF20484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11D43-5704-4CB0-A72C-31127730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E7A2-3D15-4996-A1E6-CEB80FBF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8935A-3883-4B74-923C-9F1363F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DBA8-ADF0-4228-B42E-140B2A63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EB24-92EA-4986-A3A6-44C31CF3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A3D3-ED9C-4699-B397-4599915C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3BF75-F685-45E5-A2E5-02EE484D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61DE7-3F6B-4081-875B-095BDAA0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5DDBB-8B0C-4ACF-9D13-766FFDE2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49806-00FC-474F-B080-8770258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A3553-C45A-4DD7-919B-3E8268C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C4AC9-26F9-4AB2-AD82-036D0973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92EDE-16E1-4D8B-8EEC-98147A91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CB1BB-E170-4CB8-BE03-92C3267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6DD-A55A-4BFC-B120-78A8994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ABF2A-2F52-4661-8717-ABEB5FB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79C90-C0EA-4FF5-A18D-19D8868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B3E77-F5BE-41F8-9918-EB5EE3E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09C8-E9B6-4F94-9484-2A0DD46D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4AC0-C8CC-43BB-A56C-A52FFF0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7863F-1F5B-4B69-BF9B-8929FBBC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CB9E1-6296-4727-A5CF-EDFA67C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4DD08-F7BC-49AB-83A5-BCF88F30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4862C-CB9B-46D7-9D3A-C0B90E81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8F852-3A27-41B1-9949-84EA4221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889D-9CF2-49D5-8F5E-D1D44D7F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8CB06-4CAE-421A-A058-D4A5F7C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58297-E0D6-4716-A3AE-CFC0D61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75898-D5C0-49F3-A429-D87C668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E6896-04E3-4EE1-8FB0-289841F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B5DC8-1942-4302-8BB6-57F0581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828F3-A2F0-4043-A73E-E534387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21A8C-B4CF-447B-815D-59809908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43660-D457-4CAD-9D7D-DC1801C2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DD1A4-9B9B-4BF2-A956-A5930E79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50F2F-DD52-4114-8ACD-5E4DCB4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E6B8-A506-470F-B825-10CA1B4D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4AA34-B979-4360-BCA1-9907471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8FF8E-F60F-466E-B8C7-46F703E6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A8FBF-D46E-4CEB-AD7F-EA09135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7C3AD-B176-4DAD-B4D6-382A111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A720C-FF25-4DCC-A90D-454EA4CA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4AFFC-459E-4397-8353-DC49EC5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48005-4C31-4F62-9BE2-847C399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12E2B-A861-4134-9E18-FCB58644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8FB9E-68B4-49BC-8FD8-D9ECC5BB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D7D40-3042-499A-BE0B-F9ED85F1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81DA-F813-4CE8-8F58-7F893601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5B565-0684-4078-8398-619DDD3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E51E4-E193-4787-8D91-D0FDFD4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9DB22-A096-4991-ABDF-E948327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EB483-B25B-43F2-BB68-838BBAE1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68C19-4D79-436E-A62C-9BB8211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7AF29-571B-4409-BCE2-DBC87B5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85DD0-C072-4BB5-8057-D5C2B3F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6F745-5873-45A1-A95D-A5BB903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D5D6E-E86C-4226-9332-0F2C062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F7D7B-B546-4863-BDE8-999C6F40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3B8-3878-415A-A980-4C8BB10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8A6BB-905E-447C-8EE6-C5AB0600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74853-2628-468D-8AAA-C877A3C8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D9A91-6960-4575-8DC4-C76535D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A4523-DC3A-4AC8-B098-271FE42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F20D1-9F2B-4067-A3F6-B595DB2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981A1-DAFE-46C6-995F-92DEDC7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77114-36D6-4482-8192-66A285A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6E117-5D7B-4349-A5A3-278F601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15F91-FBA9-4E52-853A-E81BCA1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FFAC3-14B9-407D-8A1C-D5D6466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6C8-4041-47E5-80C3-231788B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8862A-1F3C-4B57-8B0B-9953F2A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435D7-2779-48C7-BCF7-03BAA10D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50C9A-1E95-4B36-A8F6-27165618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4C3E7-CF99-4343-A1E3-2513936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94FF6-8B9B-47BB-800B-0626861B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35BF1-3A67-4B54-B7CD-4525A02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08D32-2182-44D9-975D-24ECB5BD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9F212-A2C4-4870-87C7-CB42F1B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95A1B-55AC-4F14-A3EF-087C4ED3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41573-C4D0-4529-AC81-3BEF32A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6EA-BC24-431C-BED3-564A0DD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353-452F-40BD-BFE2-2129D76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4C518-4BA3-4184-96C8-1120713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9E639-2394-4A21-9174-2CA95B4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AB119-FFA8-4300-80A4-FEB749D3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B1A15-47D7-42A1-9270-7A998B3A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13DE7-90F3-456E-99F9-F06098CF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77FBA-6DBD-455E-AFF0-A536F2B7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7E24A-DE2E-4AD5-867B-F67B8FC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E2A58-AFDB-44FF-8B1C-B0453414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5D41D-926A-495E-B05F-4CD4B11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DDCA1-E3B0-4FFB-89EB-41D1E31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866C-82A4-44D6-BBB9-189EC3E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EBFCE-35EA-4ADC-AC24-882C0CB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24055-F9AC-4974-87D4-6CB8E45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BF568-D393-45D5-BBC3-2D98416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F5B61-2F7C-42AD-86A4-25620AD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726B7-C069-4BBE-84EA-952D23A6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576D8-1597-43A0-B3E3-1109657A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4052A-FA7C-492F-89F0-4C475C3D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F3DD8-5044-4E3A-A6F0-C2CA281A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BFBEB-725A-43D2-914D-9D447DF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9A38E-AB06-4CDF-A5CB-BEF3CB7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422-C77A-45D4-97D9-87B314E0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098B3-E644-4D9D-BA9B-CA1858B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D55A2-CF13-4906-AD68-3159F6F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12DA8-3CCE-4A1F-B540-B41F4B2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67EDA-B737-48AD-8C77-5DAD0AA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AF005-D8A5-450B-A748-D882361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DEF95-F174-4112-9847-1BBB129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8E193-2D37-494F-A079-D0A6CC5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355D0-E212-4748-B6AB-0AF1CADA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D7887-2C84-4E8C-A7E3-4AF037C2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FE798-4A51-44B8-8D50-C93F6405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063-EEDE-4455-B84A-D54F2938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7AF81-BCB0-4B05-9385-C8637A8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290E4-8379-40D8-A020-3EFD3CB1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5B54E-E2E0-4D33-952F-A60B73C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54B5D-ECF1-43C5-A790-4EE28BF3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F7149-E063-4F80-B529-5647E78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DC906-03C5-4668-BF45-D89EDDF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F6689-20E2-45BD-8384-28B839A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AB84D-835F-4183-AB58-9564A12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85C82-F403-4F93-8194-858F7EF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EEEBE-E2A2-4191-84BC-C6B2A3F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164-BA2F-43A9-9659-133E9C7F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70C66-ACBF-4A03-B635-95E80035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B18A8-A051-4C26-B6B6-1A94D7B0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1887F-37D4-4457-BD55-181D32FD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64DD8-7872-4B99-909E-AFB7DAE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29C4A-A000-409D-86D4-BE21F5C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CA955-AAE4-4144-8D28-0542178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B8D22-718F-4099-9A17-ED0FC88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A0079-608E-4667-8E97-65F180D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E68CA-7E34-4D35-BBBA-5DBCA6E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3CA15-9CB5-4E9A-B1A3-8E39FCC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8F5D-AC21-4264-8AD2-68B3BD33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879A3-D7AF-4F3C-A0C0-01B33BA3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43DB7-5E9C-471A-AAC1-56A5D32C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0C0DC-F7AF-4403-BCBD-C2EDE89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7B8A-6406-4A1B-9D9B-5871323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43A4-1243-4BE8-87E8-92FE5E8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44F9-76DB-4E10-81A8-DC26C5C9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424D-0138-45C4-B29C-94DEA283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61B-038A-4AE3-BB10-C186C33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0BD5-418C-4220-A3BE-1EF4E29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14E1-4463-477C-8CC5-18E7434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CF9C-1CFA-44C4-8142-6C11DE0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C2A0-2A9A-4F04-B0AE-CA42BC90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0C57-2522-4E81-92D5-0D56F50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D94D-0FA7-4EAF-8C01-4FC4B7F3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41B7-0303-41A4-9393-2824DE31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EDD7-56D5-4C87-A3E5-9893C021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9D79-7A06-4536-AC10-D2F845C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7FE7-108B-4608-8F8B-47D613BE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E4C-AA2E-45DA-8C6D-E55AD45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A31D-6DD4-408E-B9FA-2D784FF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D557-5684-45BA-B7E1-A2A2B34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6C68-8A38-4259-8DBD-4FD2727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8BFE-F13C-4A45-A3AF-9EDFF4E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054D-4DE9-401A-94EA-FC72F08C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720B-1AD5-403F-B501-F88A365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2141-E3D2-4603-91AA-76F0DCC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53A0-50EF-4BF0-9EC4-4EEC619C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54B9-E27C-44D0-9E8D-BC9E9DD3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0FEF-0A15-4759-A51C-8B720B71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C6B-062E-42DA-80A0-EFA5C24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BF3F6-4378-42B4-9F0E-FA6702D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622BA-A74B-4C37-BD39-8EF97023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0742-2187-488D-97C7-FEE4291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2446-D4B9-4814-BB60-03614A3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D132-727B-4480-8383-AF709723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078F-B713-4137-99C5-A5227190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A7B7-5128-4380-A1B1-EA6E4DA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F2DB-AF6F-4E96-B8AA-BCE821D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FA2E-2C7E-4836-9252-9C8AA3D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1F99-E3CD-4FB2-9606-31B291C0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4B9-5D8A-469B-B654-516C41A8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8E05-63DB-448D-BC0E-5AA3F94F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8474-8D81-42FA-9443-DFF7B6D5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F8CA-D90A-4468-8B8B-9FF9FE00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486E-8DCB-43B3-B956-B52A6E2D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672A-17DD-4B47-A403-309A4F96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DDDF-B70E-45DB-9669-ED30081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A71E-B052-4E4C-AB6B-697978D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CC16-712C-41EE-AE3A-7D2F9B3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FB18-A593-4ABB-AA7E-44AE75B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AB00F-2BBC-4FFE-9F34-87F1B43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98F-0546-48C1-B51A-F57B598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40586-4D32-4AE4-81F8-9E09795B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E77A-3814-4A2B-A9F5-BE1B72E8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8BF1-6934-4A54-9EBF-790F0542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C04C-5FC6-40A4-B3F2-DB019639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BB6BA-33A3-4D85-B6DA-DE3A55F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27B4F-D413-431B-B035-5D5B5D8A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5CE0-6D40-499D-9F06-0C0E17C3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E1F8-E7E3-484F-A5E9-14CDAC4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A9F4-A64F-4258-961F-FAF52ED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E9A8-FB71-4996-BEC6-0E791C9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B2C-4ABA-4E60-BF54-37E1B41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14D2-5D74-454F-BCF5-40D419F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42B8-B60A-4BE6-BD85-211E690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7B49-821F-4BC9-9763-BEA3801C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C8F7-5B0F-411C-BD78-2D930362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22F3-2B76-47B2-B943-6348ABAA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EBA0-EC6B-44CD-85F5-BDD68A6B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BB5A-F8AA-4C7D-B271-3CFB453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FAC6-BDD9-432B-B1BA-D27DC16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6C462-D627-41F1-9A80-714FA1FF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4AF41-4FF2-42A4-B92D-C1FC429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C1A-EC82-4A4D-AE04-9F2866E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07922-7501-4AAF-83F6-6D90A77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43BC-699A-462E-867E-1672EE7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2FD1-F38B-4F0C-B44B-2180634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9D15-3C32-43BA-8739-5FE470E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2954F-2C25-4307-8CC3-1DE9B03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2CD1-470F-4B36-90C3-5DFD9BCD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CADC2-380E-4645-BC5E-7C5321A5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391F-9507-41C8-8EBF-77DE752B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D7FD-5E26-4933-AEA3-9188EF3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74BE5-DFE5-4743-9FF3-081990A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1C8-E228-4738-85DE-ED1CD9F943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620-1CD6-4B1E-80AB-3C55A6989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751E-AAE4-4284-85C6-89D1CAF98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BEB3-79F1-4C5E-ABE7-CD6C333EE1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96F-8AD4-4FF2-9295-0805569AE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D54A-C24C-4E37-A6AD-19883EA3C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112-EB61-429F-99C4-3B15647AB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532-767C-477B-89CD-1917D9610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D8FE-95E3-42BC-BF2D-FA95C1369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EA7-846D-4FDB-9026-BA4BD95BE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B2C2-AB0A-45A3-A87A-95BCA19C5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C06-4368-49A3-931E-3659D03BE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62F-FC53-4BA0-8EBD-9719E7862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04A7-4739-439C-BA66-8EDE9286A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7BC-F9AC-4937-9DBC-3EDA86A6E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732-B5F8-4BA3-91F7-E77A4D722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81E7-4BCA-4399-9B18-E63442140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63A-265A-45C8-9265-A5E4E8BD02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2C2A-0525-4CF9-9492-C1939B4F4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0103-F455-4164-B888-5D6B25CBFD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F74-370B-4644-B09E-316D34DF7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6704-5FAF-42EC-BAF4-B71BD83BC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EA10-54AB-448B-8D2B-46B310623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0C0-6F51-4A0C-8917-A064AECF7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BAD-29A5-4BAD-85A7-9A18DE5BA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465-1948-444B-BCDD-F51BAC232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C97-6BBC-48C2-B57F-DE9CD66A68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175-1540-4C98-AF59-6AD981789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A51-D550-4122-ACE1-58BABF5B2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12E-E97D-4172-9035-798F7B12B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59D-1B23-41F1-9254-CFE360BAC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E6E3-E92E-49A7-9670-82D244FBE0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0C08-436F-4F56-90BD-18203B65A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016-3FBD-41A5-9CDD-06AB0CFF0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7BE-4AA6-4550-88F8-5F0B1AAE66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E91-BD4B-4B7D-9395-2D3A95A68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CC4-6E7D-4DD3-B75C-FB6C0462C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CED7-5282-4231-A373-A6269F3D0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9D9-A776-4AFD-8BA1-8A0F3C06A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D94-2778-4FAB-BB85-3E0CB6E0D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19280" y="2919240"/>
            <a:ext cx="590544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409680" y="1447920"/>
            <a:ext cx="8324640" cy="3962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240360" cy="8654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395280" y="3486240"/>
            <a:ext cx="3240000" cy="865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3240000" cy="8650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4859280" y="2492280"/>
            <a:ext cx="3240000" cy="8654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6"/>
          <a:stretch/>
        </p:blipFill>
        <p:spPr>
          <a:xfrm>
            <a:off x="4859280" y="3457440"/>
            <a:ext cx="3240000" cy="865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7"/>
          <a:stretch/>
        </p:blipFill>
        <p:spPr>
          <a:xfrm>
            <a:off x="4859280" y="4451400"/>
            <a:ext cx="3240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68609" descr=""/>
          <p:cNvPicPr/>
          <p:nvPr/>
        </p:nvPicPr>
        <p:blipFill>
          <a:blip r:embed="rId1"/>
          <a:stretch/>
        </p:blipFill>
        <p:spPr>
          <a:xfrm>
            <a:off x="257040" y="876240"/>
            <a:ext cx="8629920" cy="56484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2"/>
          <a:stretch/>
        </p:blipFill>
        <p:spPr>
          <a:xfrm>
            <a:off x="1187280" y="3514680"/>
            <a:ext cx="3961080" cy="922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960720" cy="922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900000" y="5430960"/>
            <a:ext cx="62643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826920" y="5978520"/>
            <a:ext cx="626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67585" descr=""/>
          <p:cNvPicPr/>
          <p:nvPr/>
        </p:nvPicPr>
        <p:blipFill>
          <a:blip r:embed="rId1"/>
          <a:stretch/>
        </p:blipFill>
        <p:spPr>
          <a:xfrm>
            <a:off x="752400" y="981000"/>
            <a:ext cx="7639200" cy="213372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67586" descr=""/>
          <p:cNvPicPr/>
          <p:nvPr/>
        </p:nvPicPr>
        <p:blipFill>
          <a:blip r:embed="rId2"/>
          <a:stretch/>
        </p:blipFill>
        <p:spPr>
          <a:xfrm>
            <a:off x="252360" y="3571920"/>
            <a:ext cx="8639280" cy="21621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4759200" y="1341360"/>
            <a:ext cx="892440" cy="4939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7854840" y="1197000"/>
            <a:ext cx="892440" cy="792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4211640" y="2162160"/>
            <a:ext cx="892080" cy="4935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7856640" y="2046240"/>
            <a:ext cx="892080" cy="792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7"/>
          <a:stretch/>
        </p:blipFill>
        <p:spPr>
          <a:xfrm>
            <a:off x="1908000" y="3933720"/>
            <a:ext cx="892440" cy="5032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8"/>
          <a:stretch/>
        </p:blipFill>
        <p:spPr>
          <a:xfrm>
            <a:off x="5162400" y="3889440"/>
            <a:ext cx="892440" cy="5032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9"/>
          <a:stretch/>
        </p:blipFill>
        <p:spPr>
          <a:xfrm>
            <a:off x="8085240" y="3789360"/>
            <a:ext cx="892080" cy="792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0"/>
          <a:stretch/>
        </p:blipFill>
        <p:spPr>
          <a:xfrm>
            <a:off x="1749600" y="4653000"/>
            <a:ext cx="892080" cy="7920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1"/>
          <a:stretch/>
        </p:blipFill>
        <p:spPr>
          <a:xfrm>
            <a:off x="5003640" y="4738680"/>
            <a:ext cx="892440" cy="5032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2"/>
          <a:stretch/>
        </p:blipFill>
        <p:spPr>
          <a:xfrm>
            <a:off x="8288280" y="4811760"/>
            <a:ext cx="827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847800"/>
            <a:ext cx="8562960" cy="5676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348000" y="38606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24360" y="450864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372360" y="4797360"/>
            <a:ext cx="93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61960" y="1052640"/>
            <a:ext cx="8020080" cy="4752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716360" y="2363760"/>
            <a:ext cx="93528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7596360" y="3284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419640" y="41641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7308720" y="41925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3780000" y="4854600"/>
            <a:ext cx="5760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3276720" y="260820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567560" y="2565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3059280" y="3227400"/>
            <a:ext cx="10792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7323120" y="3213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3089160" y="386064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7797960" y="386064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3506760" y="450864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7769160" y="4522680"/>
            <a:ext cx="107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95200" y="1800360"/>
            <a:ext cx="8553600" cy="325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174840" y="3255840"/>
            <a:ext cx="11811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7653240" y="3241800"/>
            <a:ext cx="11811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3794040" y="3933720"/>
            <a:ext cx="11811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667640" y="3905280"/>
            <a:ext cx="11811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3564000" y="4537080"/>
            <a:ext cx="11811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7834320" y="4522680"/>
            <a:ext cx="1181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85840" y="1309680"/>
            <a:ext cx="8572320" cy="4238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814480" y="254484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91480" y="253512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2268360" y="365904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365960" y="365904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2354400" y="481176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7135920" y="479736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399960" y="1847880"/>
            <a:ext cx="8344080" cy="3162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4989600" y="3141720"/>
            <a:ext cx="3830400" cy="2016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308720" y="2579760"/>
            <a:ext cx="1150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638280" y="1662120"/>
            <a:ext cx="7867440" cy="3533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798480" y="2349360"/>
            <a:ext cx="3745080" cy="2880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3059280" y="174312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716360" y="23637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977160" y="1773360"/>
            <a:ext cx="14824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343080" y="1147680"/>
            <a:ext cx="8458200" cy="4562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384720" cy="8636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684360" y="3832200"/>
            <a:ext cx="3384360" cy="863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384720" cy="8636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5003640" y="2852640"/>
            <a:ext cx="3384720" cy="863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5003640" y="3817800"/>
            <a:ext cx="3384720" cy="8636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5148360" y="4797360"/>
            <a:ext cx="3384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8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